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789C-72E2-446A-8A66-A4BA8839BF26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1CB8-FB8D-44D9-9093-937A862CF341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29B3-1A1B-47B6-A393-3905A990B64D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613F-4A82-4CA9-825B-5F4EEA07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B4A5-B4FA-4FA3-84BE-737B21A7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79E-D602-4B2C-80D5-FD631EFE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7578-1E7E-449B-83F2-47682D36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9ED2-27FF-4B9A-9ECF-22E3F513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B880-B900-4096-ACD6-449918DC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0FB5-88A1-4FBE-A68D-BE68F816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8DA-0CC0-4CB7-8205-725D6746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3A4D-8D40-4130-BD36-C3609CBE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AB59-C965-41E3-98B3-D34DEA14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6995-CB0F-4EC3-9847-1C999E9C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FE0-3413-42DE-8A1D-D7E637BF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B277-BE49-46ED-880F-7ADF1B1CCA56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8" descr="C:\Documents and Settings\User\Рабочий стол\ramka-mal7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42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3851280" y="4508640"/>
            <a:ext cx="47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500120" y="4572000"/>
            <a:ext cx="542916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МБОУ ООШ № 25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м.Е.Н.Сисева п. Северного 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Муниципального образования 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урганинский район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395280" y="115920"/>
            <a:ext cx="8353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cap="sq" w="9360">
                  <a:solidFill>
                    <a:srgbClr val="ff33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</a:t>
            </a:r>
            <a:endParaRPr b="1" lang="en-US" sz="7200" spc="1" strike="noStrike">
              <a:ln cap="sq" w="9360">
                <a:solidFill>
                  <a:srgbClr val="ff33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500040" y="21420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53" name="Picture 10" descr="http://www.brightwallpapers.com.ua/Uploads/11-4-2013/a128a490-879e-4e81-84c3-cfdcb57632ea/thumb2-c0cbdd79959cc931854c2f02b20d06f9.jpg"/>
          <p:cNvPicPr/>
          <p:nvPr/>
        </p:nvPicPr>
        <p:blipFill>
          <a:blip r:embed="rId2"/>
          <a:stretch/>
        </p:blipFill>
        <p:spPr>
          <a:xfrm>
            <a:off x="214200" y="214200"/>
            <a:ext cx="242748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9"/>
          <p:cNvSpPr/>
          <p:nvPr/>
        </p:nvSpPr>
        <p:spPr>
          <a:xfrm>
            <a:off x="1143000" y="642960"/>
            <a:ext cx="6715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2000160" y="1357200"/>
            <a:ext cx="5357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Сбережение и укрепление здоровья детей - одна из острых проблем современной жизни. Для растущего организма очень важно рациональное питание. Оно обеспечивает поступление в организм веществ, идущих на формирование новых клеток, возмещает энергетические траты организма, способствует нормальному физическому и психическому развитию детей, повышает сопротивляемость организма к инфекционным заболеваниям, улучшает работоспособность. </a:t>
            </a:r>
            <a:endParaRPr b="1" lang="en-US" sz="1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p:transition advTm="9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C:\Documents and Settings\User\Рабочий стол\ramka-mal74.jpg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75009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1500120" y="864000"/>
            <a:ext cx="2857680" cy="284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конкурса «Мы - за здоровое питание!» </a:t>
            </a:r>
            <a:endParaRPr b="1" lang="en-US" sz="1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Олевых с фирменным рецептом  завтрака «Сырники с яблоками» </a:t>
            </a:r>
            <a:endParaRPr b="1" lang="en-US" sz="1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9 класса </a:t>
            </a:r>
            <a:endParaRPr b="1" lang="en-US" sz="1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4286160" y="1071720"/>
            <a:ext cx="3214800" cy="391140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2" descr="C:\Documents and Settings\User\Рабочий стол\ramka-mal7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5009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5"/>
          <p:cNvSpPr/>
          <p:nvPr/>
        </p:nvSpPr>
        <p:spPr>
          <a:xfrm>
            <a:off x="2000160" y="116676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714680" y="786960"/>
            <a:ext cx="5357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Классический салат с огурцами и помидорами   от семьи Тупикиных</a:t>
            </a:r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ученик 5 класса</a:t>
            </a:r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5000760" y="3286080"/>
            <a:ext cx="3295440" cy="3429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1428840" y="2286000"/>
            <a:ext cx="3284280" cy="337032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5" descr="C:\Documents and Settings\User\Рабочий стол\ramka-mal74.jpg"/>
          <p:cNvPicPr/>
          <p:nvPr/>
        </p:nvPicPr>
        <p:blipFill>
          <a:blip r:embed="rId1"/>
          <a:stretch/>
        </p:blipFill>
        <p:spPr>
          <a:xfrm>
            <a:off x="0" y="-326880"/>
            <a:ext cx="9144000" cy="7184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928440" y="357120"/>
            <a:ext cx="35002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соль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 семьи Реминов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ни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клас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" descr="C:\Users\Дом\Desktop\здоровое питание\IMG-20210512-WA0018.jpg"/>
          <p:cNvPicPr/>
          <p:nvPr/>
        </p:nvPicPr>
        <p:blipFill>
          <a:blip r:embed="rId2"/>
          <a:stretch/>
        </p:blipFill>
        <p:spPr>
          <a:xfrm>
            <a:off x="4929120" y="2500200"/>
            <a:ext cx="3000600" cy="3694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3"/>
          <a:stretch/>
        </p:blipFill>
        <p:spPr>
          <a:xfrm>
            <a:off x="4857840" y="357120"/>
            <a:ext cx="2838240" cy="198144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5" descr="C:\Documents and Settings\User\Рабочий стол\ramka-mal74.jpg"/>
          <p:cNvPicPr/>
          <p:nvPr/>
        </p:nvPicPr>
        <p:blipFill>
          <a:blip r:embed="rId1"/>
          <a:stretch/>
        </p:blipFill>
        <p:spPr>
          <a:xfrm>
            <a:off x="0" y="-326880"/>
            <a:ext cx="9144000" cy="7184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04384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Легкий овощной салат «Вечерок» от семьи Карапышовых -1,4 клас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Users\Дом\Desktop\здоровое питание\IMG-20210512-WA0111.jpg"/>
          <p:cNvPicPr/>
          <p:nvPr/>
        </p:nvPicPr>
        <p:blipFill>
          <a:blip r:embed="rId2"/>
          <a:stretch/>
        </p:blipFill>
        <p:spPr>
          <a:xfrm>
            <a:off x="3714840" y="2176560"/>
            <a:ext cx="4357440" cy="3967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Users\Дом\Desktop\здоровое питание\IMG-20211019-WA0026.jpg"/>
          <p:cNvPicPr/>
          <p:nvPr/>
        </p:nvPicPr>
        <p:blipFill>
          <a:blip r:embed="rId3"/>
          <a:stretch/>
        </p:blipFill>
        <p:spPr>
          <a:xfrm>
            <a:off x="928800" y="2141640"/>
            <a:ext cx="2286000" cy="399564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5" descr="C:\Documents and Settings\User\Рабочий стол\ramka-mal7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3580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11512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«Прежде чем за стол мне сесть,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Я подумаю, что съесть»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Вкусный стол от семьи Трусовых -1 класс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Содержимое 7" descr="original.jpeg"/>
          <p:cNvPicPr/>
          <p:nvPr/>
        </p:nvPicPr>
        <p:blipFill>
          <a:blip r:embed="rId2"/>
          <a:stretch/>
        </p:blipFill>
        <p:spPr>
          <a:xfrm>
            <a:off x="4929120" y="2428920"/>
            <a:ext cx="3286080" cy="2062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1500120" y="2286000"/>
            <a:ext cx="3214800" cy="400068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0" descr="C:\Documents and Settings\User\Рабочий стол\ramka-mal74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Эти  продукты полезно ес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21" descr=""/>
          <p:cNvPicPr/>
          <p:nvPr/>
        </p:nvPicPr>
        <p:blipFill>
          <a:blip r:embed="rId2"/>
          <a:stretch/>
        </p:blipFill>
        <p:spPr>
          <a:xfrm>
            <a:off x="633240" y="1365120"/>
            <a:ext cx="7560000" cy="712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f3e343ee062"/>
          <p:cNvPicPr/>
          <p:nvPr/>
        </p:nvPicPr>
        <p:blipFill>
          <a:blip r:embed="rId3"/>
          <a:stretch/>
        </p:blipFill>
        <p:spPr>
          <a:xfrm>
            <a:off x="285840" y="221472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de1eaa6e4f7c"/>
          <p:cNvPicPr/>
          <p:nvPr/>
        </p:nvPicPr>
        <p:blipFill>
          <a:blip r:embed="rId4"/>
          <a:stretch/>
        </p:blipFill>
        <p:spPr>
          <a:xfrm>
            <a:off x="285840" y="5429160"/>
            <a:ext cx="2592360" cy="1533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s16.radikal.ru/i191/1004/48/a9517807fb20.jpg"/>
          <p:cNvPicPr/>
          <p:nvPr/>
        </p:nvPicPr>
        <p:blipFill>
          <a:blip r:embed="rId5"/>
          <a:stretch/>
        </p:blipFill>
        <p:spPr>
          <a:xfrm>
            <a:off x="5786280" y="2071800"/>
            <a:ext cx="2928960" cy="219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"/>
          <p:cNvPicPr/>
          <p:nvPr/>
        </p:nvPicPr>
        <p:blipFill>
          <a:blip r:embed="rId6"/>
          <a:stretch/>
        </p:blipFill>
        <p:spPr>
          <a:xfrm>
            <a:off x="2643120" y="2143080"/>
            <a:ext cx="3002040" cy="400212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3" descr="C:\Documents and Settings\User\Рабочий стол\ramka-mal7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358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ЕЗУЛЬТАТЫ ОСВОЕНИЯ ПРОГРАММЫ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14240" y="1357200"/>
            <a:ext cx="79725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результате изучения курса «Разговор о правильном питании» учащиеся получат представл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правилах и основах рационального питани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необходимости соблюдения гигиены пит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полезных продуктах пит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структуре ежедневного рациона пит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 ассортименте наиболее типичных продуктов пит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 особенностях питания в летний и зимний периоды, причинах вызывающих изменение в рационе пит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 основных группах питательных веществ – белках, жирах, углеводах, витаминах и минеральных солях, функциях этих веществ в организ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и получат знания и навыки, связанные с этикетом в обла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тания с, что в определённой степени повлияет 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пешность их социальной адаптаци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овление  контактов с другими людьми.    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4000">
    <p:checker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2" descr="C:\Documents and Settings\User\Рабочий стол\ramka-mal74.jpg"/>
          <p:cNvPicPr/>
          <p:nvPr/>
        </p:nvPicPr>
        <p:blipFill>
          <a:blip r:embed="rId1"/>
          <a:stretch/>
        </p:blipFill>
        <p:spPr>
          <a:xfrm>
            <a:off x="-187200" y="0"/>
            <a:ext cx="9331200" cy="6953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sphotos-e.ak.fbcdn.net/hphotos-ak-ash3/c15.0.403.403/p403x403/531104_507592399259814_1259075427_n.jpg"/>
          <p:cNvPicPr/>
          <p:nvPr/>
        </p:nvPicPr>
        <p:blipFill>
          <a:blip r:embed="rId2"/>
          <a:stretch/>
        </p:blipFill>
        <p:spPr>
          <a:xfrm>
            <a:off x="4786200" y="4214880"/>
            <a:ext cx="3500640" cy="2428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28760" y="499680"/>
            <a:ext cx="75009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ограмма школ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Разговор о правильном питании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ствуе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учению общих сведений о питании, продуктах питания, о правилах приготовления пищ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ширению представления о необходимости заботы о своём здоровье, о важности правильного питания как составной части сохранения и укрепления здоровь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анию соблюдения режима и гигиены питания, культуры поведения за столом, привычки правильно питать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8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2" descr="C:\Documents and Settings\User\Рабочий стол\ramka-mal74.jpg"/>
          <p:cNvPicPr/>
          <p:nvPr/>
        </p:nvPicPr>
        <p:blipFill>
          <a:blip r:embed="rId1"/>
          <a:stretch/>
        </p:blipFill>
        <p:spPr>
          <a:xfrm>
            <a:off x="-187200" y="0"/>
            <a:ext cx="9331200" cy="69534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8648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바탕"/>
                <a:ea typeface="바탕"/>
              </a:rPr>
              <a:t>Реализация программы «Разговор о правильном пита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2356920"/>
            <a:ext cx="825804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но из важнейших условий эффективной реализации программы— поддержка родителей. Поэтому в «Разговоре о правильном питании» часть заданий ориентирована на совместную деятельность детей и взрослых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2" descr="C:\Documents and Settings\User\Рабочий стол\ramka-mal7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009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990720" y="2286000"/>
            <a:ext cx="71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1" lang="en-US" sz="7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95280" y="571680"/>
            <a:ext cx="8353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5" name="Прямоугольник 8"/>
          <p:cNvSpPr/>
          <p:nvPr/>
        </p:nvSpPr>
        <p:spPr>
          <a:xfrm>
            <a:off x="357120" y="35712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66" name="Picture 10" descr="http://img-fotki.yandex.ru/get/6511/51314269.6be/0_92bdf_9ef68626_XL"/>
          <p:cNvPicPr/>
          <p:nvPr/>
        </p:nvPicPr>
        <p:blipFill>
          <a:blip r:embed="rId2"/>
          <a:stretch/>
        </p:blipFill>
        <p:spPr>
          <a:xfrm>
            <a:off x="4786200" y="5072040"/>
            <a:ext cx="4103640" cy="215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http://www.dijitaltanitim.org/Resimler/wggfmsix.ghq25052.jpg"/>
          <p:cNvPicPr/>
          <p:nvPr/>
        </p:nvPicPr>
        <p:blipFill>
          <a:blip r:embed="rId3"/>
          <a:stretch/>
        </p:blipFill>
        <p:spPr>
          <a:xfrm>
            <a:off x="3000240" y="928800"/>
            <a:ext cx="2806920" cy="1857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0"/>
          <p:cNvSpPr/>
          <p:nvPr/>
        </p:nvSpPr>
        <p:spPr>
          <a:xfrm>
            <a:off x="357120" y="500040"/>
            <a:ext cx="8286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9" name="Прямоугольник 10"/>
          <p:cNvSpPr/>
          <p:nvPr/>
        </p:nvSpPr>
        <p:spPr>
          <a:xfrm>
            <a:off x="1357200" y="3000240"/>
            <a:ext cx="6143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Родители  активно участвуют в подготовке и проведении различных мероприятий — праздников, конкурсов, викторин по здоровому питанию , осуществляют родительский контроль за работой школьной столовой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p:transition advTm="6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2" descr="C:\Documents and Settings\User\Рабочий стол\ramka-mal7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009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>
            <a:off x="785880" y="7869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a4a"/>
                </a:solidFill>
                <a:latin typeface="inherit"/>
                <a:ea typeface="Times New Roman"/>
              </a:rPr>
              <a:t>     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428760" y="357120"/>
            <a:ext cx="7858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바탕"/>
              </a:rPr>
              <a:t>Родительский  контроль за качеством питания 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73" name="Picture 5" descr="C:\Users\Дом\Desktop\внеурочка фото\20211118_122815.jpg"/>
          <p:cNvPicPr/>
          <p:nvPr/>
        </p:nvPicPr>
        <p:blipFill>
          <a:blip r:embed="rId2"/>
          <a:stretch/>
        </p:blipFill>
        <p:spPr>
          <a:xfrm>
            <a:off x="4929120" y="1928880"/>
            <a:ext cx="3603600" cy="4929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Дом\Desktop\внеурочка фото\20211118_122846.jpg"/>
          <p:cNvPicPr/>
          <p:nvPr/>
        </p:nvPicPr>
        <p:blipFill>
          <a:blip r:embed="rId3"/>
          <a:stretch/>
        </p:blipFill>
        <p:spPr>
          <a:xfrm>
            <a:off x="216000" y="1928880"/>
            <a:ext cx="4541760" cy="492912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2" descr="C:\Documents and Settings\User\Рабочий стол\ramka-mal7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00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1143000" y="64296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Дом\Desktop\внеурочка фото\20211008_103028.jpg"/>
          <p:cNvPicPr/>
          <p:nvPr/>
        </p:nvPicPr>
        <p:blipFill>
          <a:blip r:embed="rId3"/>
          <a:stretch/>
        </p:blipFill>
        <p:spPr>
          <a:xfrm>
            <a:off x="4214880" y="3502080"/>
            <a:ext cx="4143240" cy="335592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2" descr="C:\Documents and Settings\User\Рабочий стол\ramka-mal7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0096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571760" y="571680"/>
            <a:ext cx="55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Часы здоровья</a:t>
            </a: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1785960" y="1643040"/>
            <a:ext cx="2357280" cy="317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C:\Users\Дом\Desktop\внеурочка фото\20201020_091757.jpg"/>
          <p:cNvPicPr/>
          <p:nvPr/>
        </p:nvPicPr>
        <p:blipFill>
          <a:blip r:embed="rId3"/>
          <a:stretch/>
        </p:blipFill>
        <p:spPr>
          <a:xfrm>
            <a:off x="4714920" y="164304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4"/>
          <a:stretch/>
        </p:blipFill>
        <p:spPr>
          <a:xfrm>
            <a:off x="2214720" y="4378320"/>
            <a:ext cx="4643280" cy="247968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2" descr="C:\Documents and Settings\User\Рабочий стол\ramka-mal7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0096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857160" y="571680"/>
            <a:ext cx="714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ектные работы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1428840" y="1500120"/>
            <a:ext cx="2923920" cy="3898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4857840" y="1500120"/>
            <a:ext cx="2214360" cy="395136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2" descr="C:\Documents and Settings\User\Рабочий стол\ramka-mal7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0096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1357200" y="571680"/>
            <a:ext cx="650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Конкурсы рисунков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89" name="Picture 2" descr="C:\Users\Дом\Desktop\внеурочка фото\20201020_093122.jpg"/>
          <p:cNvPicPr/>
          <p:nvPr/>
        </p:nvPicPr>
        <p:blipFill>
          <a:blip r:embed="rId2"/>
          <a:stretch/>
        </p:blipFill>
        <p:spPr>
          <a:xfrm>
            <a:off x="571680" y="2857680"/>
            <a:ext cx="2357280" cy="3143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3000240" y="2143080"/>
            <a:ext cx="2727360" cy="3143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Users\Дом\Desktop\внеурочка фото\IMG-20211210-WA0004.jpg"/>
          <p:cNvPicPr/>
          <p:nvPr/>
        </p:nvPicPr>
        <p:blipFill>
          <a:blip r:embed="rId4"/>
          <a:stretch/>
        </p:blipFill>
        <p:spPr>
          <a:xfrm>
            <a:off x="5786280" y="1428840"/>
            <a:ext cx="2357640" cy="314316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2:13:20Z</dcterms:created>
  <dc:creator>stas</dc:creator>
  <dc:description/>
  <dc:language>en-US</dc:language>
  <cp:lastModifiedBy>Дом</cp:lastModifiedBy>
  <dcterms:modified xsi:type="dcterms:W3CDTF">2021-12-12T21:28:57Z</dcterms:modified>
  <cp:revision>1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91049</vt:lpwstr>
  </property>
</Properties>
</file>